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BD1EC-2A5C-488A-AFE7-20677AC5D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0DB9D-DF19-42F8-9E4C-82080288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2BF26-5F73-4426-B6F8-52291597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EC6D8-1252-401F-A305-8BFBCC781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31F67-2071-45A1-B6A7-809B7948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EB9F43-80E3-4B59-B256-4D9F65D3C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528553-31B9-472B-946F-8FF5F586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7DF159-ABD5-4644-A4CF-35E9375E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0197A5-9B13-43F9-A092-6AAC7D99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431271-9291-4138-8F0C-D9B9D8E1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0C0A8-5F33-4128-98BE-BD9786B6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3B877F-4705-4104-9AB5-AF5C226D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511C4C-B3D0-4CC1-BAB8-2DD5A7B4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0377CB-761A-41D0-8D8D-EE0163B2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97E64B-6352-42C8-A367-F1F3E54D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229400-EAE3-48CA-810A-776B50AF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3D17DE-58C0-4C2B-9945-CC99C7C5C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D69611-70E8-4BB9-843F-62AB64BC8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13222-13E2-4FD0-BA87-CB9CD2EC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DC29E-3E0B-43B1-ABDD-24903637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BCE0D-31A3-4F9B-AA0F-B3A283BF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BD642-A309-4E14-A95A-12C25410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238E9-B08E-4F74-8743-DF747276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D7B2F-C0A3-4244-A224-637528C2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5A78-3E67-47C1-9279-1699B1332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9AF1-B0A7-4BDC-97E5-B93F5E09DAF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87A7-A8FC-49FF-B0AD-6AE337544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4324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AC11-9AA5-4A50-AB1C-E60D8369854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C772-CD53-4959-9A5C-EDCE7C4AD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24160" y="2247840"/>
            <a:ext cx="579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Texas Nodal Market Implementation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Data Center Data Migrat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2008 proposed WMS activitie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52600" y="1066680"/>
          <a:ext cx="7886520" cy="4560840"/>
        </p:xfrm>
        <a:graphic>
          <a:graphicData uri="http://schemas.openxmlformats.org/drawingml/2006/table">
            <a:tbl>
              <a:tblPr/>
              <a:tblGrid>
                <a:gridCol w="5962680"/>
                <a:gridCol w="1923840"/>
              </a:tblGrid>
              <a:tr h="78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MS input/direction needed b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dal Market reports / Content, Structure, reten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ing convention for CR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1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 issues associated with negative LaaR bi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1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dal Verifiable Cost Method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1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iew whether a limit on the number of CRR auction bids should be implemen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1/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termine CSCs for 2009?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nual CCT for Nodal (use CSCs?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1/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velop a policy and draft PRR for setting maximum Shadow Pr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2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15657-FA05-4CE7-977D-306F28C0BE4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259AD0-794E-4CC1-B81C-75066BA3AE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2008 proposed WMS activitie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52600" y="1066680"/>
          <a:ext cx="7886520" cy="3194280"/>
        </p:xfrm>
        <a:graphic>
          <a:graphicData uri="http://schemas.openxmlformats.org/drawingml/2006/table">
            <a:tbl>
              <a:tblPr/>
              <a:tblGrid>
                <a:gridCol w="5962680"/>
                <a:gridCol w="1923840"/>
              </a:tblGrid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MS input/direction needed b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CR Auctions for December 2008 &amp; beyond if we go live post-Dec 2008 (contingency pla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3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ingency plans if integrated NMMS not avail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/1/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iew dynamic rating input assumptions for CRR Network Mod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/1/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ailability of long-term PTP Obligations (beyond one month ahea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4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B6C8A-E792-4C88-B5E7-2671C47163C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AF204C-538C-491E-B6CB-8FE8782902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arbara Clemenhagen</cp:lastModifiedBy>
  <dcterms:modified xsi:type="dcterms:W3CDTF">2008-01-15T22:42:46Z</dcterms:modified>
  <cp:revision>328</cp:revision>
  <dc:subject/>
  <dc:title>Texas Nodal Market Implementation ERCOT Board of Directors Meeting Budget Rationale October 17, 2006  Kathy Hager, Market Redesign Program Director </dc:title>
</cp:coreProperties>
</file>